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3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06221-B1A1-426D-9438-DA6AB1CEF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2EB1E-ECB9-4467-B34A-3EAD3C66D2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42890-87D4-4AC9-9BF1-944D8A2607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01265-9A9A-49BD-8741-DE76D9BEA0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A788-C8B8-4731-8162-F616FAD7F0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26C03-6CD9-48A5-81FC-AC886BD156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835A-8C99-40AC-8410-E31880F288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913B3-8EA0-4501-A0EE-8D29EADBC8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576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BB0-E870-4182-8B16-5BCDDA7C6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3C5C-59B7-45B9-AA70-DC7490922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DF73-7F10-426C-A4CE-90D570A44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DEC7-3FC5-4F45-861E-AB99B9B4D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8A46-9B13-463F-BC7E-B2412D556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1BF3-1D67-4285-B551-C04A0E06A1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33EF-42AF-47EE-B739-26D5788F0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CC4E-0904-43D3-B6D1-B1037E20E9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24E4-6C8C-4CBA-8032-598C01933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48096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484C-F776-402B-A24D-C21905E32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F64C-1492-4246-9121-781BFA01E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D873-7550-4C28-808F-3B8B720F4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0C76-BA1A-4C94-ABF8-E11C3113A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667E-DD6A-4C52-AC1A-339C3DCA19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4356-1D73-40A1-AB45-2D739D9F4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D83F-3227-45DA-971A-D8A48B64EF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EF15-1CBC-4613-B8C4-D2868A251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59F2-3283-49DE-BE3E-284B5F30D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C0B6-8515-4068-890E-CC0B1BB3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CDFA-0789-4EF6-BB28-86826ACF3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48096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C812-3DE3-4992-A8DB-63734CAF8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DBDF-0EA3-4738-9799-1A82AB4C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CF10-8A4C-4C30-AD4C-6DA547B05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C63F-860C-44D7-99DB-C29E45E06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11360" y="6527880"/>
            <a:ext cx="319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55000" y="652752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A5B8-FFA6-4816-A661-81BF1D93ED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280" y="1913040"/>
            <a:ext cx="4256280" cy="30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60880" y="1913040"/>
            <a:ext cx="426096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igh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th Outline Level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1360" y="6527880"/>
            <a:ext cx="319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155000" y="652752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9BD8-91DB-4409-95F6-58D4607AD84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forkids.com/minisite/election-2012" TargetMode="External"/><Relationship Id="rId3" Type="http://schemas.openxmlformats.org/officeDocument/2006/relationships/hyperlink" Target="http://www.teachervision.fen.com/us-presidency/elections/58186.html?detoured=1" TargetMode="External"/><Relationship Id="rId4" Type="http://schemas.openxmlformats.org/officeDocument/2006/relationships/hyperlink" Target="http://pbskids.org/democracy/meet-the-candidates/" TargetMode="External"/><Relationship Id="rId5" Type="http://schemas.openxmlformats.org/officeDocument/2006/relationships/hyperlink" Target="http://www.nytimes.com/interactive/2012/10/04/us/politics/20120804-denver-presidential-debate-obama-romney.html" TargetMode="External"/><Relationship Id="rId6" Type="http://schemas.openxmlformats.org/officeDocument/2006/relationships/hyperlink" Target="http://help.wikispaces.com/help.wikitext" TargetMode="External"/><Relationship Id="rId7" Type="http://schemas.openxmlformats.org/officeDocument/2006/relationships/hyperlink" Target="http://cleland2012-2013.wikispaces.com/Sub+Plans+for+October+22+-+26%2C+2012" TargetMode="External"/><Relationship Id="rId8" Type="http://schemas.openxmlformats.org/officeDocument/2006/relationships/hyperlink" Target="http://cleland2012-2013.wikispaces.com/Welcome%21%22%20%5Cl%20%22Welcome!" TargetMode="External"/><Relationship Id="rId9" Type="http://schemas.openxmlformats.org/officeDocument/2006/relationships/hyperlink" Target="http://cleland2012-2013.wikispaces.com/Meet+Mrs.+Cleland%21%22%20%5Cl%20%22Meet%20Mrs.%20Cleland!" TargetMode="External"/><Relationship Id="rId10" Type="http://schemas.openxmlformats.org/officeDocument/2006/relationships/hyperlink" Target="file:///file/view/2012-2013+School+Calendar.pdf" TargetMode="External"/><Relationship Id="rId11" Type="http://schemas.openxmlformats.org/officeDocument/2006/relationships/hyperlink" Target="file:///file/view/2012-2013+School+Calendar.pdf" TargetMode="External"/><Relationship Id="rId12" Type="http://schemas.openxmlformats.org/officeDocument/2006/relationships/hyperlink" Target="file:///file/view/2012-2013+School+Calendar.pdf" TargetMode="External"/><Relationship Id="rId13" Type="http://schemas.openxmlformats.org/officeDocument/2006/relationships/hyperlink" Target="file:///file/detail/2012-2013+School+Calendar.pdf" TargetMode="External"/><Relationship Id="rId14" Type="http://schemas.openxmlformats.org/officeDocument/2006/relationships/hyperlink" Target="file:///file/view/2012-2013+School+Calendar.pdf" TargetMode="External"/><Relationship Id="rId15" Type="http://schemas.openxmlformats.org/officeDocument/2006/relationships/hyperlink" Target="http://cleland2012-2013.wikispaces.com/Daily+Schedule" TargetMode="External"/><Relationship Id="rId16" Type="http://schemas.openxmlformats.org/officeDocument/2006/relationships/hyperlink" Target="http://www.engrade.com/" TargetMode="External"/><Relationship Id="rId17" Type="http://schemas.openxmlformats.org/officeDocument/2006/relationships/hyperlink" Target="http://www.thinkgate.net/nccravenlegacy/taketestsignin.htm" TargetMode="External"/><Relationship Id="rId18" Type="http://schemas.openxmlformats.org/officeDocument/2006/relationships/hyperlink" Target="http://cleland2012-2013.wikispaces.com/Weekly+Newsletters" TargetMode="External"/><Relationship Id="rId19" Type="http://schemas.openxmlformats.org/officeDocument/2006/relationships/hyperlink" Target="https://hosted67.renlearn.com/42091/HomeConnect/Login.aspx" TargetMode="External"/><Relationship Id="rId20" Type="http://schemas.openxmlformats.org/officeDocument/2006/relationships/hyperlink" Target="http://cleland2012-2013.wikispaces.com/Alumni" TargetMode="External"/><Relationship Id="rId21" Type="http://schemas.openxmlformats.org/officeDocument/2006/relationships/hyperlink" Target="http://cleland2011-2012.wikispaces.com/Math+Resources" TargetMode="External"/><Relationship Id="rId22" Type="http://schemas.openxmlformats.org/officeDocument/2006/relationships/hyperlink" Target="http://cleland2011-2012.wikispaces.com/Language+Arts+Resources" TargetMode="External"/><Relationship Id="rId23" Type="http://schemas.openxmlformats.org/officeDocument/2006/relationships/hyperlink" Target="http://cleland2011-2012.wikispaces.com/Science+Resources" TargetMode="External"/><Relationship Id="rId24" Type="http://schemas.openxmlformats.org/officeDocument/2006/relationships/hyperlink" Target="http://cleland2012-2013.wikispaces.com/Social+Studies+Resources" TargetMode="External"/><Relationship Id="rId25" Type="http://schemas.openxmlformats.org/officeDocument/2006/relationships/hyperlink" Target="http://cleland2012-2013.wikispaces.com/Math+Activities" TargetMode="External"/><Relationship Id="rId26" Type="http://schemas.openxmlformats.org/officeDocument/2006/relationships/hyperlink" Target="http://cleland2012-2013.wikispaces.com/Spelling" TargetMode="External"/><Relationship Id="rId27" Type="http://schemas.openxmlformats.org/officeDocument/2006/relationships/hyperlink" Target="http://cleland2012-2013.wikispaces.com/Harry+Potter+and+the+Sorcerer%27s+Stone" TargetMode="External"/><Relationship Id="rId28" Type="http://schemas.openxmlformats.org/officeDocument/2006/relationships/hyperlink" Target="http://cleland2012-2013.wikispaces.com/2012+Presidential+Election+Project" TargetMode="External"/><Relationship Id="rId29" Type="http://schemas.openxmlformats.org/officeDocument/2006/relationships/hyperlink" Target="http://cleland2012-2013.wikispaces.com/page/edit/space.menu?goto=http%3A%2F%2Fcleland2012-2013.wikispaces.com%2F2012%2BPresidential%2BElection%2BProject" TargetMode="External"/><Relationship Id="rId30" Type="http://schemas.openxmlformats.org/officeDocument/2006/relationships/hyperlink" Target="http://help.wikispaces.com/" TargetMode="External"/><Relationship Id="rId31" Type="http://schemas.openxmlformats.org/officeDocument/2006/relationships/hyperlink" Target="http://magazines.scholastic.com/election-2012" TargetMode="External"/><Relationship Id="rId32" Type="http://schemas.openxmlformats.org/officeDocument/2006/relationships/hyperlink" Target="http://magazines.scholastic.com/election-2012" TargetMode="External"/><Relationship Id="rId33" Type="http://schemas.openxmlformats.org/officeDocument/2006/relationships/hyperlink" Target="http://pbskids.org/democracy/be-president/" TargetMode="External"/><Relationship Id="rId3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328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esidential Issue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280" y="18144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 candidates stand on each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intesha M. Simm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rack Obam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ying to get new busesses so people can get new jobs. He signed a recovery that can help build millions of job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8840" y="182844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Retrain workers that are unemployed so they can get a new jobs in a new busi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3052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rack Obama:    The law  gives millions of people affordable health c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1767960"/>
            <a:ext cx="45482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          He is going to replace Obama's care and he is going to replace medical c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9400" y="4276800"/>
            <a:ext cx="4038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rack Obama:    He wants to raise taxs for the people who are rich.So he can give it to the poor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      He wants  to elimenate the death ta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Barack Obama: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more teachers and more classroo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4000" y="1913040"/>
            <a:ext cx="423396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   Shift some power from the federal level so he can empower governors to reform education syst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and National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Barack Obama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 the war of Afghanistain or make peace with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   Find inefficiencies in the department of defense that can reinvested into for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Barack Obama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ants to increase the border control resour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400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Mitt Romney:     He wants to build a fence around the U.S. So no immigrats won't come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34520"/>
            <a:ext cx="906768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1516068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t">
            <a:normAutofit fontScale="66000"/>
          </a:bodyPr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imeforkids.com/minisite/election-20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teachervision.fen.com/us-presidency/elections/58186.html?detoured=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pbskids.org/democracy/meet-the-candidates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nytimes.com/interactive/2012/10/04/us/politics/20120804-denver-presidential-debate-obama-romney.html</a:t>
            </a: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 of Form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elp on how to format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of For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 of For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ub Plans for October 22 - 26, 2012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elcome!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Meet Mrs. Cleland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file/view/2012-2013+School+Calendar.pdf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file/view/2012-2013+School+Calendar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2012-2013 School Calendar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13"/>
              </a:rPr>
              <a:t>··Detai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14"/>
              </a:rPr>
              <a:t>··Downlo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Daily Schedule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Engrade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Online Test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eekly Newsletter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Home Connect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Alumni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Math Resource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Language Arts Resource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3"/>
              </a:rPr>
              <a:t>Science Resource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4"/>
              </a:rPr>
              <a:t>Social Studies Resource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5"/>
              </a:rPr>
              <a:t>Math Activities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6"/>
              </a:rPr>
              <a:t>Spelling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7"/>
              </a:rPr>
              <a:t>Harry Potter and the Sorcerer's Stone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8"/>
              </a:rPr>
              <a:t>2012 Presidential Election 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9"/>
              </a:rPr>
              <a:t>edit navig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0"/>
              </a:rPr>
              <a:t>http://help.wikispace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8080" y="4278240"/>
            <a:ext cx="3235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081840"/>
            <a:ext cx="28306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4576680"/>
            <a:ext cx="3006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1"/>
              </a:rPr>
              <a:t>http://magazines.scholastic.com/election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1400" y="5135400"/>
            <a:ext cx="300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2"/>
              </a:rPr>
              <a:t>http://magazines.scholastic.com/election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2720" y="6342120"/>
            <a:ext cx="2830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3"/>
              </a:rPr>
              <a:t>http://pbskids.org/democracy/be-president/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